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5DD-CDA5-45A0-9298-7394E35D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BD9-6341-48D1-8BCC-CB3EA2B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715-D9A0-4D7C-897C-A7962515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0C2-BB4A-45DA-BEC6-EF7C6664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A34-DA1A-40D4-9895-66741ED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C66-DF22-4622-8A96-F161C42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011-EB3A-444B-9030-FE63EC63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22E-7193-42DD-A9CB-48FA946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857-1AC6-4D66-9FA3-CC063EF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484-9386-4AE3-9558-A38DF5B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BA8-5029-4169-8D73-F98AB1B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1D0-1E67-4439-8057-61C0C91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399-186E-46BD-B5DE-F75F20F0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762120"/>
            <a:ext cx="4419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6477120" cy="22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7621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440" y="2387520"/>
            <a:ext cx="195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View photos of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Edit My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rite something about yoursel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429000"/>
            <a:ext cx="1828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Relationship 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urrent ci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48640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8672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7816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67816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8672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1600200"/>
            <a:ext cx="4419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133720"/>
            <a:ext cx="4419720" cy="67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762120"/>
            <a:ext cx="441972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6477120" cy="22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7621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440" y="2387520"/>
            <a:ext cx="195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View photos of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Edit My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rite something about yoursel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600200"/>
            <a:ext cx="4419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048120"/>
            <a:ext cx="32004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mus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television sh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mov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boo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quot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and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choo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ber o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048120"/>
            <a:ext cx="32004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40:44Z</dcterms:created>
  <dc:creator>Customer</dc:creator>
  <dc:description/>
  <dc:language>en-US</dc:language>
  <cp:lastModifiedBy>Customer</cp:lastModifiedBy>
  <dcterms:modified xsi:type="dcterms:W3CDTF">2009-12-09T14:22:58Z</dcterms:modified>
  <cp:revision>8</cp:revision>
  <dc:subject/>
  <dc:title>Slide 1</dc:title>
</cp:coreProperties>
</file>